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E0D-AC02-4E95-AD5C-1BB98399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9CE-22EA-4846-BE6B-227E7600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C8A-9572-4327-90C9-9FB396AD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4CAB-BF9A-4323-AFBE-E9C524C4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E91-8BB8-4202-A7C2-1FFF4930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B4A-A89D-403B-BB30-665225C4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B088-238C-4EB3-9AB2-628C2424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747-E6E7-4198-8079-891B37BC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125-E2CE-42E6-8822-41B331F7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6B5-A783-4B63-BC97-6A46F4E7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554-11BC-40F2-AD8E-0E749D5A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B16-921E-46BE-BABB-2D228F9F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006E-DC59-4343-BB9E-369616FCB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o.wikipedia.org/wiki/Lun&#259;" TargetMode="External"/><Relationship Id="rId2" Type="http://schemas.openxmlformats.org/officeDocument/2006/relationships/hyperlink" Target="http://www.google.ro/images?hl=ro&amp;q=luna&amp;um=1&amp;ie=UTF-8&amp;source=og&amp;sa=N&amp;tab=wi&amp;biw=1408&amp;bih=636" TargetMode="External"/><Relationship Id="rId3" Type="http://schemas.openxmlformats.org/officeDocument/2006/relationships/hyperlink" Target="http://www.google.ro/images?hl=ro&amp;q=luna&amp;um=1&amp;ie=UTF-8&amp;source=og&amp;sa=N&amp;tab=wi&amp;biw=1408&amp;bih=636" TargetMode="External"/><Relationship Id="rId4" Type="http://schemas.openxmlformats.org/officeDocument/2006/relationships/hyperlink" Target="http://www.google.ro/images?hl=ro&amp;q=luna&amp;um=1&amp;ie=UTF-8&amp;source=og&amp;sa=N&amp;tab=wi&amp;biw=1408&amp;bih=636" TargetMode="External"/><Relationship Id="rId5" Type="http://schemas.openxmlformats.org/officeDocument/2006/relationships/hyperlink" Target="http://www.google.ro/images?hl=ro&amp;q=luna&amp;um=1&amp;ie=UTF-8&amp;source=og&amp;sa=N&amp;tab=wi&amp;biw=1408&amp;bih=636" TargetMode="External"/><Relationship Id="rId6" Type="http://schemas.openxmlformats.org/officeDocument/2006/relationships/hyperlink" Target="http://www.google.ro/images?hl=ro&amp;q=luna&amp;um=1&amp;ie=UTF-8&amp;source=og&amp;sa=N&amp;tab=wi&amp;biw=1408&amp;bih=636" TargetMode="External"/><Relationship Id="rId7" Type="http://schemas.openxmlformats.org/officeDocument/2006/relationships/hyperlink" Target="http://www.google.ro/images?hl=ro&amp;q=luna&amp;um=1&amp;ie=UTF-8&amp;source=og&amp;sa=N&amp;tab=wi&amp;biw=1408&amp;bih=636" TargetMode="External"/><Relationship Id="rId8" Type="http://schemas.openxmlformats.org/officeDocument/2006/relationships/hyperlink" Target="http://www.google.ro/images?hl=ro&amp;q=luna&amp;um=1&amp;ie=UTF-8&amp;source=og&amp;sa=N&amp;tab=wi&amp;biw=1408&amp;bih=636" TargetMode="External"/><Relationship Id="rId9" Type="http://schemas.openxmlformats.org/officeDocument/2006/relationships/hyperlink" Target="http://www.google.ro/images?hl=ro&amp;q=luna&amp;um=1&amp;ie=UTF-8&amp;source=og&amp;sa=N&amp;tab=wi&amp;biw=1408&amp;bih=636" TargetMode="External"/><Relationship Id="rId10" Type="http://schemas.openxmlformats.org/officeDocument/2006/relationships/hyperlink" Target="http://www.google.ro/images?hl=ro&amp;q=luna&amp;um=1&amp;ie=UTF-8&amp;source=og&amp;sa=N&amp;tab=wi&amp;biw=1408&amp;bih=636" TargetMode="External"/><Relationship Id="rId11" Type="http://schemas.openxmlformats.org/officeDocument/2006/relationships/hyperlink" Target="http://www.google.ro/images?hl=ro&amp;q=luna&amp;um=1&amp;ie=UTF-8&amp;source=og&amp;sa=N&amp;tab=wi&amp;biw=1408&amp;bih=636" TargetMode="External"/><Relationship Id="rId12" Type="http://schemas.openxmlformats.org/officeDocument/2006/relationships/hyperlink" Target="http://www.google.ro/images?hl=ro&amp;q=luna&amp;um=1&amp;ie=UTF-8&amp;source=og&amp;sa=N&amp;tab=wi&amp;biw=1408&amp;bih=636" TargetMode="External"/><Relationship Id="rId13" Type="http://schemas.openxmlformats.org/officeDocument/2006/relationships/hyperlink" Target="http://www.google.ro/images?hl=ro&amp;q=luna&amp;um=1&amp;ie=UTF-8&amp;source=og&amp;sa=N&amp;tab=wi&amp;biw=1408&amp;bih=636" TargetMode="External"/><Relationship Id="rId14" Type="http://schemas.openxmlformats.org/officeDocument/2006/relationships/hyperlink" Target="http://www.google.ro/images?hl=ro&amp;q=luna&amp;um=1&amp;ie=UTF-8&amp;source=og&amp;sa=N&amp;tab=wi&amp;biw=1408&amp;bih=636" TargetMode="Externa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Luna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este singurul satelit natural 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ului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. Numele de "lună" se aplică uneori și sateliților altor planete din sistemul nostru solar. Vârsta Lunii este de aproximativ 4,60 miliarde de an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56000" y="404640"/>
            <a:ext cx="3960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Luna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9152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Bibliograf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o.wikipedia.org/wiki/Lun%C4%8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oogle.ro/images?h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o&amp;q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luna&amp;um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=1&amp;ie=UTF-8&amp;source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g&amp;s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N&amp;tab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i&amp;biw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=1408&amp;bih=63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tori: Neagu Adria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duva Ge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697800" cy="5861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Luna are o rază medie de 1.737 km, de 4 ori mai mică decât a Pămâ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u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, și orbitează în jurul acestuia la o distanță medie de 384.403 km; pentru a ajunge pe Pământ lumina Lunii are nevoie de ceva mai mult decât o secundă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602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92720" y="620280"/>
            <a:ext cx="33940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azele Lun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Luna se poate observa cel mai bine cu două zile înainte de Primul Pătrar până la Lună Plină. Acest interval în care Luna este vizibilă durează 9 zi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924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le lu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5689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353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l Arm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iulie 1969, Ne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ostrong a fo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ul om care a p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 Lu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465800" cy="302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932360" y="1989000"/>
            <a:ext cx="3959280" cy="4689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8000" y="333000"/>
            <a:ext cx="353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artea vizibilă a Lunii e plină de cratere provocate de ciocniri cu asteroizi sau meteoriți ce au avut loc în perioada de tinerețe a sistemului So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8144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9497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tul v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zut de pe Lun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587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416720" cy="5973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3:07:11Z</dcterms:created>
  <dc:creator>elev</dc:creator>
  <dc:description/>
  <dc:language>en-US</dc:language>
  <cp:lastModifiedBy>elev</cp:lastModifiedBy>
  <dcterms:modified xsi:type="dcterms:W3CDTF">2011-03-03T14:25:04Z</dcterms:modified>
  <cp:revision>5</cp:revision>
  <dc:subject/>
  <dc:title>     </dc:title>
</cp:coreProperties>
</file>